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F3B-85A5-44A9-BC5C-2740BE99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E28-24DC-4708-A8E8-67026E89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6EC-16F0-467D-8277-B6C7478D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38F-D508-4CB8-81BA-2C5CE482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90C1-4BEB-431A-A795-0DA2F157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CDD9-0790-41BA-B841-5D28ECF7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6D22-02C8-456A-B260-AB6DE760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BB8B-5BAA-47A5-B6AB-998390E5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43C8-3BB1-4607-8D69-98BACAF3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166D-4D31-451D-BDE2-A7E8211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697C-13AA-4482-A7D2-542DC608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CF3-D341-4BD8-9086-AF3D144E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1F92-D6DE-45E8-980A-1E5E9C7E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86A7-EA80-4EA4-A84E-5C2C190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C04C-0710-4A2C-9E44-5E9E8822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2FFF-F74E-465E-B6AF-AB867EF3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0FE2-EC56-4B8A-B4E5-6B09EAB8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F56-089A-4648-9FC8-FAC89850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46D-4334-4BD3-B2C7-CAA03A42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D18-10B1-4854-8EE7-2414822B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4BF-B867-4A1F-86B7-E0CE9961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D30-C398-4D5B-BE6B-C2591E2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8A7-D591-4EF6-8C59-091C3CF3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501-5F7D-4F34-8AD1-588023DD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63C1-33D0-4DEF-BBBE-F4BFA187955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9F1-E2D0-4749-A9A3-7A20CAD78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8CC-4136-4101-8A73-6E16E2033715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1382-F7E6-4F10-97B7-D86F3174CBB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68FB-B65E-4A83-B75A-7470E3C68C8F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63B1-C4E3-4DA7-933C-44951F5B86D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usiness Presentation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conomic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3-200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038480" y="11430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our Company Log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42900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our Company Slog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97B1-AF01-4455-B94E-686A23949599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198B-1E72-463A-B6EA-38AC233F9C7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752480" y="1981080"/>
            <a:ext cx="457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Pro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nu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de of Ethic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siness Card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upons/ Rebat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1615-4F1F-4671-9068-90DB6B1F9340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F6E-0010-4C42-917C-D17EEB0B21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lear statement of your company’s long-term mission.  Try to use words that will help direct the growth of your company, but be as concise as possibl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EC71-CC3E-4D2F-B396-51002436DF94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B4B6-DB13-405E-9B6C-596AE51FE73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Tea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CEO and key management by na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 previous accomplishments to show these are people with a record of suc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ize number of years of experience in this fie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A71B-AAEC-44D1-91E7-1C7476E76AE1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684C-0F24-4FA7-94BD-CEA4A50C8D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rketing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e Your Advertising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(You only have to create one!)=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Audio/Visu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Print Cho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112D-F581-4754-940E-15296B28DADD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C4B1-CE97-438D-A661-D745DEA6645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usiness Concep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ize key technology, concept or strategy on which your business is ba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(Share Prototype Here!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F377-3FDE-4CB2-9044-DA1B652F21BA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8A90-3624-49E4-AB24-70E9D9E1A43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pet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ize compet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line your company’s competitive advant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770C-1482-4ED2-AFEC-EFD02395F155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DD7D-7383-4FCA-9425-27CD021C4E1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oals &amp; 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ve-year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specific measurable objectiv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market share objecti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revenue/profitability objecti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11DB-0AD8-4C00-B01E-72C0E94A8621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226A-D73E-46C7-9BDA-F76D7DF99D5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nancial Pl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cing Assumptions (Product, Labor, Fees, Taxes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orporate your Comparative Shopping L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9C26-2298-443E-9B6B-1436167ECE36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83BF-B670-45F6-834C-927A4386868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source Requir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chnology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nel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ource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ancial, distribution, promo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ternal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ducts/services/technology required to be purchased outside compan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3-05-22T02:43:47Z</dcterms:modified>
  <cp:revision>2</cp:revision>
  <dc:subject/>
  <dc:title>PowerPoint Presentation</dc:title>
</cp:coreProperties>
</file>